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C3F-65FF-4FDE-9A7A-943EE48964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AF79-0AC0-411B-AE8A-82CA088C3F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C70E-E5DB-409E-9DCE-F12DD513D7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1514-D39C-41CF-BCC4-E16428BF9B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C656-639B-4D72-BCBA-6443AB10D0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39D6-1118-4B11-A40A-6449AFB83B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E23C-3E49-43BC-9227-8D4E9E09ED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AD7B-F416-4422-B6D8-EF8C3B7EA5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97E0-FD7A-4E2A-B4EF-6B26B7EB15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EDB4-22CA-4111-A981-8BFDCBB781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B8B-31F8-4D69-8DD1-4B371CDD12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C5C6-8DFE-4200-85AE-33D5106946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3262-0649-4270-8C27-9B9946526B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C473-558F-4258-9D98-6CEAAEF93B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B916-A71A-4B04-A7E2-6DD7FB7337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6508-119C-4DF6-B8A4-0E7FBEFA9B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4BE7-950A-447E-9265-081FB49BAD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F43E-7AED-4E66-BB81-E865737F8B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E31F-8B94-4F82-9D36-B8230095F9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950A-63C0-405A-AEE5-A87EEBB899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5A9A-D6BD-42F2-BFDB-5006306F24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3BBB-F93B-481D-98C8-02395D60C0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6AC9-821C-4F6B-B5FA-83C673F867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3230-4F9A-49E8-8200-314C8516B4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007A-CCA1-408B-8C82-DDE9906138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8EA4-EB02-4A32-87FD-CD46E577B5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ED2E-2247-4507-9A1A-9BF2E63A0B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F629-7958-49CB-8278-67EB05EC03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E34D-BF90-4B52-AD4E-69A0949183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35C-6D48-43AB-B2C2-4C372C1F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29A-826D-4105-9B6F-46F159FD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BB5-B9EF-4E47-8584-C9CEA070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287-F076-402F-AA07-76434C34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E41-05D3-4B08-964E-9ED8F028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DC2-462D-43AA-A459-063EDA53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069-DCE0-4250-B925-4A07F79F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38F-4BC5-47D6-837A-646D7BAD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AEC-B1E7-4642-BF86-9459CC35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19D-1C2E-4AEE-B73D-F612D845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34F-1063-4866-A7F6-22580A9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536-C27C-4FF4-84D1-2682BCDE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EEF2-AFCC-4D46-8CDC-63C44B4A5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0" descr=""/>
          <p:cNvPicPr/>
          <p:nvPr/>
        </p:nvPicPr>
        <p:blipFill>
          <a:blip r:embed="rId1"/>
          <a:stretch/>
        </p:blipFill>
        <p:spPr>
          <a:xfrm>
            <a:off x="0" y="-1063800"/>
            <a:ext cx="9144000" cy="5311800"/>
          </a:xfrm>
          <a:prstGeom prst="rect">
            <a:avLst/>
          </a:prstGeom>
          <a:ln w="0">
            <a:noFill/>
          </a:ln>
        </p:spPr>
      </p:pic>
      <p:sp>
        <p:nvSpPr>
          <p:cNvPr id="49" name="矩形 23"/>
          <p:cNvSpPr/>
          <p:nvPr/>
        </p:nvSpPr>
        <p:spPr>
          <a:xfrm>
            <a:off x="0" y="0"/>
            <a:ext cx="9144000" cy="3186000"/>
          </a:xfrm>
          <a:prstGeom prst="rect">
            <a:avLst/>
          </a:prstGeom>
          <a:gradFill rotWithShape="0">
            <a:gsLst>
              <a:gs pos="0">
                <a:srgbClr val="fcfdfe">
                  <a:alpha val="58039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8" descr=""/>
          <p:cNvPicPr/>
          <p:nvPr/>
        </p:nvPicPr>
        <p:blipFill>
          <a:blip r:embed="rId2"/>
          <a:stretch/>
        </p:blipFill>
        <p:spPr>
          <a:xfrm>
            <a:off x="0" y="3251160"/>
            <a:ext cx="9144000" cy="3683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920" y="4495320"/>
            <a:ext cx="2971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担科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2"/>
          <p:cNvSpPr/>
          <p:nvPr/>
        </p:nvSpPr>
        <p:spPr>
          <a:xfrm>
            <a:off x="3124080" y="4495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研究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副标题 2"/>
          <p:cNvSpPr/>
          <p:nvPr/>
        </p:nvSpPr>
        <p:spPr>
          <a:xfrm>
            <a:off x="6019920" y="4495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申办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副标题 2"/>
          <p:cNvSpPr/>
          <p:nvPr/>
        </p:nvSpPr>
        <p:spPr>
          <a:xfrm>
            <a:off x="152280" y="49528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2"/>
          <p:cNvSpPr/>
          <p:nvPr/>
        </p:nvSpPr>
        <p:spPr>
          <a:xfrm>
            <a:off x="3051000" y="49482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2"/>
          <p:cNvSpPr/>
          <p:nvPr/>
        </p:nvSpPr>
        <p:spPr>
          <a:xfrm>
            <a:off x="6019920" y="49528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起单位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8" descr=""/>
          <p:cNvPicPr/>
          <p:nvPr/>
        </p:nvPicPr>
        <p:blipFill>
          <a:blip r:embed="rId3"/>
          <a:stretch/>
        </p:blipFill>
        <p:spPr>
          <a:xfrm>
            <a:off x="282600" y="228600"/>
            <a:ext cx="367992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标题 1"/>
          <p:cNvSpPr/>
          <p:nvPr/>
        </p:nvSpPr>
        <p:spPr>
          <a:xfrm>
            <a:off x="2057400" y="1219320"/>
            <a:ext cx="51814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伦理审查会议项目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汇报时间：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0440" y="1101600"/>
          <a:ext cx="8763120" cy="5126040"/>
        </p:xfrm>
        <a:graphic>
          <a:graphicData uri="http://schemas.openxmlformats.org/drawingml/2006/table">
            <a:tbl>
              <a:tblPr/>
              <a:tblGrid>
                <a:gridCol w="1647720"/>
                <a:gridCol w="7115400"/>
              </a:tblGrid>
              <a:tr h="361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目的和终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要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要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要研究终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要研究终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验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例选择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3809880" y="1066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纳入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例选择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3809880" y="1066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除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方案和合并用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38200" y="384120"/>
            <a:ext cx="442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慰剂组的必要性及安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19320"/>
          <a:ext cx="8229600" cy="4800600"/>
        </p:xfrm>
        <a:graphic>
          <a:graphicData uri="http://schemas.openxmlformats.org/drawingml/2006/table">
            <a:tbl>
              <a:tblPr/>
              <a:tblGrid>
                <a:gridCol w="4073400"/>
                <a:gridCol w="415620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安慰剂的必要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安慰剂组的保护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疗效指标及观测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指标及观测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及表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0" descr=""/>
          <p:cNvPicPr/>
          <p:nvPr/>
        </p:nvPicPr>
        <p:blipFill>
          <a:blip r:embed="rId1"/>
          <a:stretch/>
        </p:blipFill>
        <p:spPr>
          <a:xfrm>
            <a:off x="12600" y="0"/>
            <a:ext cx="28209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 rot="16200000">
            <a:off x="-1808640" y="1809000"/>
            <a:ext cx="6858000" cy="3240000"/>
          </a:xfrm>
          <a:prstGeom prst="rect">
            <a:avLst/>
          </a:prstGeom>
          <a:gradFill rotWithShape="0">
            <a:gsLst>
              <a:gs pos="0">
                <a:srgbClr val="fcfdfe">
                  <a:alpha val="76078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" descr=""/>
          <p:cNvPicPr/>
          <p:nvPr/>
        </p:nvPicPr>
        <p:blipFill>
          <a:blip r:embed="rId2"/>
          <a:stretch/>
        </p:blipFill>
        <p:spPr>
          <a:xfrm>
            <a:off x="3227400" y="0"/>
            <a:ext cx="59166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标题 1" descr=""/>
          <p:cNvPicPr/>
          <p:nvPr/>
        </p:nvPicPr>
        <p:blipFill>
          <a:blip r:embed="rId3"/>
          <a:stretch/>
        </p:blipFill>
        <p:spPr>
          <a:xfrm>
            <a:off x="-42840" y="2359080"/>
            <a:ext cx="9156600" cy="20667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7" descr=""/>
          <p:cNvPicPr/>
          <p:nvPr/>
        </p:nvPicPr>
        <p:blipFill>
          <a:blip r:embed="rId4"/>
          <a:stretch/>
        </p:blipFill>
        <p:spPr>
          <a:xfrm>
            <a:off x="4111560" y="9360"/>
            <a:ext cx="2468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益冲突声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8"/>
          <p:cNvGrpSpPr/>
          <p:nvPr/>
        </p:nvGrpSpPr>
        <p:grpSpPr>
          <a:xfrm>
            <a:off x="712800" y="228600"/>
            <a:ext cx="7440480" cy="686160"/>
            <a:chOff x="712800" y="228600"/>
            <a:chExt cx="7440480" cy="686160"/>
          </a:xfrm>
        </p:grpSpPr>
        <p:cxnSp>
          <p:nvCxnSpPr>
            <p:cNvPr id="62" name="AutoShape 5"/>
            <p:cNvCxnSpPr/>
            <p:nvPr/>
          </p:nvCxnSpPr>
          <p:spPr>
            <a:xfrm>
              <a:off x="1447200" y="914040"/>
              <a:ext cx="6706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pic>
          <p:nvPicPr>
            <p:cNvPr id="63" name="图片 17" descr=""/>
            <p:cNvPicPr/>
            <p:nvPr/>
          </p:nvPicPr>
          <p:blipFill>
            <a:blip r:embed="rId1"/>
            <a:stretch/>
          </p:blipFill>
          <p:spPr>
            <a:xfrm>
              <a:off x="712800" y="228600"/>
              <a:ext cx="582480" cy="6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914400" y="1752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人作为本临床研究的主要研究者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者，在此研究中不存在经济上、物质上、以及社会关系等方面的利益冲突。倘若在研究开展过程中发现目前尚未知晓的利益冲突，我将及时向伦理委员会报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1981080"/>
          <a:ext cx="7924680" cy="2438640"/>
        </p:xfrm>
        <a:graphic>
          <a:graphicData uri="http://schemas.openxmlformats.org/drawingml/2006/table">
            <a:tbl>
              <a:tblPr/>
              <a:tblGrid>
                <a:gridCol w="2361960"/>
                <a:gridCol w="5562720"/>
              </a:tblGrid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一、知情同意的过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由谁负责获取知情同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哪里获取知情同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如何获取知情同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2720" y="1371600"/>
          <a:ext cx="7916760" cy="3592440"/>
        </p:xfrm>
        <a:graphic>
          <a:graphicData uri="http://schemas.openxmlformats.org/drawingml/2006/table">
            <a:tbl>
              <a:tblPr/>
              <a:tblGrid>
                <a:gridCol w="1978200"/>
                <a:gridCol w="593856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二、知情同意书的内容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可能的风险与不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预期受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的备选治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文本框 9"/>
          <p:cNvSpPr/>
          <p:nvPr/>
        </p:nvSpPr>
        <p:spPr>
          <a:xfrm>
            <a:off x="5715000" y="592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5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9"/>
          <p:cNvSpPr/>
          <p:nvPr/>
        </p:nvSpPr>
        <p:spPr>
          <a:xfrm>
            <a:off x="5715000" y="592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609480" y="1371600"/>
          <a:ext cx="7925040" cy="3505320"/>
        </p:xfrm>
        <a:graphic>
          <a:graphicData uri="http://schemas.openxmlformats.org/drawingml/2006/table">
            <a:tbl>
              <a:tblPr/>
              <a:tblGrid>
                <a:gridCol w="752760"/>
                <a:gridCol w="1609560"/>
                <a:gridCol w="990720"/>
                <a:gridCol w="1609560"/>
                <a:gridCol w="971640"/>
                <a:gridCol w="1990800"/>
              </a:tblGrid>
              <a:tr h="703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二、知情同意书的内容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补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损害赔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保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4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费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申办方承担费用具体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申办方承担费用具体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1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"/>
          <p:cNvSpPr/>
          <p:nvPr/>
        </p:nvSpPr>
        <p:spPr>
          <a:xfrm>
            <a:off x="5715000" y="592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066680"/>
          <a:ext cx="7925040" cy="5273640"/>
        </p:xfrm>
        <a:graphic>
          <a:graphicData uri="http://schemas.openxmlformats.org/drawingml/2006/table">
            <a:tbl>
              <a:tblPr/>
              <a:tblGrid>
                <a:gridCol w="3048120"/>
                <a:gridCol w="487692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二、知情同意内容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信息保密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自愿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样本的使用范围及时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与试验相关的损害后的治疗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及研究者权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任何时候受试者都可以要求退出试验，满足退出标准时研究者可要求受试者退出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7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9"/>
          <p:cNvSpPr/>
          <p:nvPr/>
        </p:nvSpPr>
        <p:spPr>
          <a:xfrm>
            <a:off x="4551480" y="592200"/>
            <a:ext cx="42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不涉及请删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96880" y="1219320"/>
          <a:ext cx="7924680" cy="4267080"/>
        </p:xfrm>
        <a:graphic>
          <a:graphicData uri="http://schemas.openxmlformats.org/drawingml/2006/table">
            <a:tbl>
              <a:tblPr/>
              <a:tblGrid>
                <a:gridCol w="3200400"/>
                <a:gridCol w="472428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三、弱势群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涉及的弱势群体种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必要理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保护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3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知情同意书的签署特殊要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3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法定监护人，见证人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0" descr=""/>
          <p:cNvPicPr/>
          <p:nvPr/>
        </p:nvPicPr>
        <p:blipFill>
          <a:blip r:embed="rId1"/>
          <a:stretch/>
        </p:blipFill>
        <p:spPr>
          <a:xfrm>
            <a:off x="12600" y="0"/>
            <a:ext cx="282096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矩形 9"/>
          <p:cNvSpPr/>
          <p:nvPr/>
        </p:nvSpPr>
        <p:spPr>
          <a:xfrm rot="16200000">
            <a:off x="-1808640" y="1809000"/>
            <a:ext cx="6858000" cy="3240000"/>
          </a:xfrm>
          <a:prstGeom prst="rect">
            <a:avLst/>
          </a:prstGeom>
          <a:gradFill rotWithShape="0">
            <a:gsLst>
              <a:gs pos="0">
                <a:srgbClr val="fcfdfe">
                  <a:alpha val="76078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6" descr=""/>
          <p:cNvPicPr/>
          <p:nvPr/>
        </p:nvPicPr>
        <p:blipFill>
          <a:blip r:embed="rId2"/>
          <a:stretch/>
        </p:blipFill>
        <p:spPr>
          <a:xfrm>
            <a:off x="3227400" y="0"/>
            <a:ext cx="59166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标题 1" descr=""/>
          <p:cNvPicPr/>
          <p:nvPr/>
        </p:nvPicPr>
        <p:blipFill>
          <a:blip r:embed="rId3"/>
          <a:stretch/>
        </p:blipFill>
        <p:spPr>
          <a:xfrm>
            <a:off x="-42840" y="2359080"/>
            <a:ext cx="9156600" cy="20667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7" descr=""/>
          <p:cNvPicPr/>
          <p:nvPr/>
        </p:nvPicPr>
        <p:blipFill>
          <a:blip r:embed="rId4"/>
          <a:stretch/>
        </p:blipFill>
        <p:spPr>
          <a:xfrm>
            <a:off x="4111560" y="9360"/>
            <a:ext cx="2468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试者招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8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95280" y="1752480"/>
          <a:ext cx="6629400" cy="158436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拟采取的招募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招募广告使用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海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传单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宣传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网络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募广告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3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20" descr=""/>
          <p:cNvPicPr/>
          <p:nvPr/>
        </p:nvPicPr>
        <p:blipFill>
          <a:blip r:embed="rId1"/>
          <a:stretch/>
        </p:blipFill>
        <p:spPr>
          <a:xfrm>
            <a:off x="0" y="-1063800"/>
            <a:ext cx="9144000" cy="53118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8" descr=""/>
          <p:cNvPicPr/>
          <p:nvPr/>
        </p:nvPicPr>
        <p:blipFill>
          <a:blip r:embed="rId2"/>
          <a:stretch/>
        </p:blipFill>
        <p:spPr>
          <a:xfrm>
            <a:off x="0" y="3173400"/>
            <a:ext cx="9144000" cy="36831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8" descr=""/>
          <p:cNvPicPr/>
          <p:nvPr/>
        </p:nvPicPr>
        <p:blipFill>
          <a:blip r:embed="rId3"/>
          <a:stretch/>
        </p:blipFill>
        <p:spPr>
          <a:xfrm>
            <a:off x="282600" y="228600"/>
            <a:ext cx="3679920" cy="609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 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项目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8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49200" y="1192320"/>
          <a:ext cx="8443800" cy="4449600"/>
        </p:xfrm>
        <a:graphic>
          <a:graphicData uri="http://schemas.openxmlformats.org/drawingml/2006/table">
            <a:tbl>
              <a:tblPr/>
              <a:tblGrid>
                <a:gridCol w="1523880"/>
                <a:gridCol w="2546640"/>
                <a:gridCol w="2209680"/>
                <a:gridCol w="216360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担科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要研究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药物临床试验分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干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干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剂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申办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经费来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设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性研究（随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双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多中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安慰剂对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治疗对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交叉对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平行对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观察性研究（回顾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前瞻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况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性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担角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长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长单位是否已批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与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" name="文本框 20"/>
          <p:cNvSpPr/>
          <p:nvPr/>
        </p:nvSpPr>
        <p:spPr>
          <a:xfrm>
            <a:off x="5181480" y="63180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此页请参照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伦理审查申请表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523880"/>
          <a:ext cx="8118360" cy="3657600"/>
        </p:xfrm>
        <a:graphic>
          <a:graphicData uri="http://schemas.openxmlformats.org/drawingml/2006/table">
            <a:tbl>
              <a:tblPr/>
              <a:tblGrid>
                <a:gridCol w="1623960"/>
                <a:gridCol w="1622520"/>
                <a:gridCol w="1623960"/>
                <a:gridCol w="1623960"/>
                <a:gridCol w="16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研项目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姓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职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事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G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证书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开展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0" descr=""/>
          <p:cNvPicPr/>
          <p:nvPr/>
        </p:nvPicPr>
        <p:blipFill>
          <a:blip r:embed="rId1"/>
          <a:stretch/>
        </p:blipFill>
        <p:spPr>
          <a:xfrm>
            <a:off x="12600" y="0"/>
            <a:ext cx="28209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9"/>
          <p:cNvSpPr/>
          <p:nvPr/>
        </p:nvSpPr>
        <p:spPr>
          <a:xfrm rot="16200000">
            <a:off x="-1808640" y="1809000"/>
            <a:ext cx="6858000" cy="3240000"/>
          </a:xfrm>
          <a:prstGeom prst="rect">
            <a:avLst/>
          </a:prstGeom>
          <a:gradFill rotWithShape="0">
            <a:gsLst>
              <a:gs pos="0">
                <a:srgbClr val="fcfdfe">
                  <a:alpha val="76078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6" descr=""/>
          <p:cNvPicPr/>
          <p:nvPr/>
        </p:nvPicPr>
        <p:blipFill>
          <a:blip r:embed="rId2"/>
          <a:stretch/>
        </p:blipFill>
        <p:spPr>
          <a:xfrm>
            <a:off x="3227400" y="0"/>
            <a:ext cx="59166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标题 1" descr=""/>
          <p:cNvPicPr/>
          <p:nvPr/>
        </p:nvPicPr>
        <p:blipFill>
          <a:blip r:embed="rId3"/>
          <a:stretch/>
        </p:blipFill>
        <p:spPr>
          <a:xfrm>
            <a:off x="-42840" y="2359080"/>
            <a:ext cx="9156600" cy="2066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"/>
          <p:cNvPicPr/>
          <p:nvPr/>
        </p:nvPicPr>
        <p:blipFill>
          <a:blip r:embed="rId4"/>
          <a:stretch/>
        </p:blipFill>
        <p:spPr>
          <a:xfrm>
            <a:off x="4111560" y="9360"/>
            <a:ext cx="2468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1371600"/>
          <a:ext cx="8001000" cy="45720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前期的动物实验及文献基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523880"/>
          <a:ext cx="7848720" cy="3932280"/>
        </p:xfrm>
        <a:graphic>
          <a:graphicData uri="http://schemas.openxmlformats.org/drawingml/2006/table">
            <a:tbl>
              <a:tblPr/>
              <a:tblGrid>
                <a:gridCol w="1295640"/>
                <a:gridCol w="2514600"/>
                <a:gridCol w="2438280"/>
                <a:gridCol w="1600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方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人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样本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院数量、总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分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是否使用安慰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期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是否涉及人类遗传资源采集、收集、买卖、出口、出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438200" y="384120"/>
            <a:ext cx="3438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验药物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器械的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420920"/>
          <a:ext cx="7543800" cy="4522680"/>
        </p:xfrm>
        <a:graphic>
          <a:graphicData uri="http://schemas.openxmlformats.org/drawingml/2006/table">
            <a:tbl>
              <a:tblPr/>
              <a:tblGrid>
                <a:gridCol w="1582560"/>
                <a:gridCol w="2989440"/>
                <a:gridCol w="2971800"/>
              </a:tblGrid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对照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有效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产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产批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规    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剂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作用机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应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8:23:40Z</dcterms:created>
  <dc:creator>RJIRB</dc:creator>
  <dc:description/>
  <dc:language>en-US</dc:language>
  <cp:lastModifiedBy>lenovo</cp:lastModifiedBy>
  <dcterms:modified xsi:type="dcterms:W3CDTF">2023-08-14T03:21:22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