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D1D9-3F57-4314-80DB-DDA733A8FA9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7A2B-3062-4385-AFFF-FC8F295B29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92CD-5F86-477B-9D8E-4B5B72CFC23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9BAC-A631-4B65-AC54-85D563D7E8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FC7B-6A9A-41F0-B0A8-8E32893DBE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6833-2E17-4675-B688-2B2F6C74D7D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F8F4-58C7-4E15-A238-D0C49AA66FD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1403-EF3A-434C-83C6-F19E1D59947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6D24-8477-4083-B09A-2464816886C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FA73-00D3-4E91-818A-65C1296D6DF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D386-0A57-4E41-B03D-BA1ABA8F6E3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93D8-4B5A-4AC0-9361-70D5DE35096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B688-5C51-452F-BE0D-C64234C152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CD42-FD2C-4AE9-AC7E-E108F36CC56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956D-26B3-4D84-977E-BFC8F81EF90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B9F6-DC37-4668-9862-A8B7C11C8F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69B3-9AD2-42C6-9B61-522074ED3D3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2ED7-A0AE-4ED4-8248-7F349AA361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48F7-F7E5-40A2-95C8-00854520BD1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72F7-2BD2-4255-93E1-8848517BE6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A6D5-6B0C-4F67-ABDF-6D17C5B151C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C4AA-04B5-4D2F-B5B0-1251501BACD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8F76-0C54-4309-8608-920BD9E869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70FD-36BE-445C-B3ED-A57ACC63B96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E982-CEB9-4B73-913E-F218264A36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42E6-6DE9-465E-92AC-7F8BFD4FE5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108F-6D6E-4711-934F-92004F55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3BCA-C5CE-483E-9CB2-1AF26D61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27B7-5F39-49ED-AF86-D92A67F3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0919-90E3-44A7-9C06-11376192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C621-5C27-401B-A8BF-71DAF48A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19EC-0FBC-4E45-B309-E360DB5D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732E-6C67-475C-B725-1C5CCAE6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67D3-FFD1-42D6-96EF-BB070358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8C09-1E60-4BE1-B86F-8EC10007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D3D-CFF6-431D-93E7-A9D19577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AA1A-79B5-42E2-A047-1CC6144E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8444-1D7E-444B-AD34-EFE7E0AA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7574-9DC8-4616-AB76-2DDD70E42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0" descr=""/>
          <p:cNvPicPr/>
          <p:nvPr/>
        </p:nvPicPr>
        <p:blipFill>
          <a:blip r:embed="rId1"/>
          <a:stretch/>
        </p:blipFill>
        <p:spPr>
          <a:xfrm>
            <a:off x="0" y="-1063800"/>
            <a:ext cx="9144000" cy="5311800"/>
          </a:xfrm>
          <a:prstGeom prst="rect">
            <a:avLst/>
          </a:prstGeom>
          <a:ln w="0">
            <a:noFill/>
          </a:ln>
        </p:spPr>
      </p:pic>
      <p:sp>
        <p:nvSpPr>
          <p:cNvPr id="49" name="矩形 23"/>
          <p:cNvSpPr/>
          <p:nvPr/>
        </p:nvSpPr>
        <p:spPr>
          <a:xfrm>
            <a:off x="0" y="0"/>
            <a:ext cx="9144000" cy="3186000"/>
          </a:xfrm>
          <a:prstGeom prst="rect">
            <a:avLst/>
          </a:prstGeom>
          <a:gradFill rotWithShape="0">
            <a:gsLst>
              <a:gs pos="0">
                <a:srgbClr val="fcfdfe">
                  <a:alpha val="58039"/>
                </a:srgbClr>
              </a:gs>
              <a:gs pos="100000">
                <a:srgbClr val="f9fd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8" descr=""/>
          <p:cNvPicPr/>
          <p:nvPr/>
        </p:nvPicPr>
        <p:blipFill>
          <a:blip r:embed="rId2"/>
          <a:stretch/>
        </p:blipFill>
        <p:spPr>
          <a:xfrm>
            <a:off x="0" y="3251160"/>
            <a:ext cx="9144000" cy="3683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名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1920" y="4495320"/>
            <a:ext cx="2971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承担科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副标题 2"/>
          <p:cNvSpPr/>
          <p:nvPr/>
        </p:nvSpPr>
        <p:spPr>
          <a:xfrm>
            <a:off x="3124080" y="44956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研究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副标题 2"/>
          <p:cNvSpPr/>
          <p:nvPr/>
        </p:nvSpPr>
        <p:spPr>
          <a:xfrm>
            <a:off x="6019920" y="44956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申办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副标题 2"/>
          <p:cNvSpPr/>
          <p:nvPr/>
        </p:nvSpPr>
        <p:spPr>
          <a:xfrm>
            <a:off x="152280" y="49528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副标题 2"/>
          <p:cNvSpPr/>
          <p:nvPr/>
        </p:nvSpPr>
        <p:spPr>
          <a:xfrm>
            <a:off x="3051000" y="494820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副标题 2"/>
          <p:cNvSpPr/>
          <p:nvPr/>
        </p:nvSpPr>
        <p:spPr>
          <a:xfrm>
            <a:off x="6019920" y="49528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起单位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8" descr=""/>
          <p:cNvPicPr/>
          <p:nvPr/>
        </p:nvPicPr>
        <p:blipFill>
          <a:blip r:embed="rId3"/>
          <a:stretch/>
        </p:blipFill>
        <p:spPr>
          <a:xfrm>
            <a:off x="282600" y="228600"/>
            <a:ext cx="3679920" cy="609480"/>
          </a:xfrm>
          <a:prstGeom prst="rect">
            <a:avLst/>
          </a:prstGeom>
          <a:ln w="0">
            <a:noFill/>
          </a:ln>
        </p:spPr>
      </p:pic>
      <p:sp>
        <p:nvSpPr>
          <p:cNvPr id="59" name="标题 1"/>
          <p:cNvSpPr/>
          <p:nvPr/>
        </p:nvSpPr>
        <p:spPr>
          <a:xfrm>
            <a:off x="2057400" y="1219320"/>
            <a:ext cx="51814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伦理审查会议项目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汇报时间：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试验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4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90440" y="1101600"/>
          <a:ext cx="8763120" cy="5126040"/>
        </p:xfrm>
        <a:graphic>
          <a:graphicData uri="http://schemas.openxmlformats.org/drawingml/2006/table">
            <a:tbl>
              <a:tblPr/>
              <a:tblGrid>
                <a:gridCol w="1647720"/>
                <a:gridCol w="7115400"/>
              </a:tblGrid>
              <a:tr h="361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试验目的和终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主要目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要目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主要研究终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要研究终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06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试验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9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"/>
          <p:cNvSpPr/>
          <p:nvPr/>
        </p:nvSpPr>
        <p:spPr>
          <a:xfrm>
            <a:off x="838080" y="1270080"/>
            <a:ext cx="76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例选择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4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4"/>
          <p:cNvSpPr/>
          <p:nvPr/>
        </p:nvSpPr>
        <p:spPr>
          <a:xfrm>
            <a:off x="3809880" y="1066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纳入标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例选择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9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4"/>
          <p:cNvSpPr/>
          <p:nvPr/>
        </p:nvSpPr>
        <p:spPr>
          <a:xfrm>
            <a:off x="3809880" y="1066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排除标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方案和合并用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4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4"/>
          <p:cNvSpPr/>
          <p:nvPr/>
        </p:nvSpPr>
        <p:spPr>
          <a:xfrm>
            <a:off x="838080" y="1270080"/>
            <a:ext cx="76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438200" y="384120"/>
            <a:ext cx="4429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慰剂组的必要性及安全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9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219320"/>
          <a:ext cx="8229600" cy="4800600"/>
        </p:xfrm>
        <a:graphic>
          <a:graphicData uri="http://schemas.openxmlformats.org/drawingml/2006/table">
            <a:tbl>
              <a:tblPr/>
              <a:tblGrid>
                <a:gridCol w="4073400"/>
                <a:gridCol w="415620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使用安慰剂的必要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安慰剂组的保护措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疗效指标及观测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4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4"/>
          <p:cNvSpPr/>
          <p:nvPr/>
        </p:nvSpPr>
        <p:spPr>
          <a:xfrm>
            <a:off x="838080" y="1270080"/>
            <a:ext cx="76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全指标及观测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9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4"/>
          <p:cNvSpPr/>
          <p:nvPr/>
        </p:nvSpPr>
        <p:spPr>
          <a:xfrm>
            <a:off x="838080" y="1270080"/>
            <a:ext cx="76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成果及表现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4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4"/>
          <p:cNvSpPr/>
          <p:nvPr/>
        </p:nvSpPr>
        <p:spPr>
          <a:xfrm>
            <a:off x="838080" y="1270080"/>
            <a:ext cx="76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0" descr=""/>
          <p:cNvPicPr/>
          <p:nvPr/>
        </p:nvPicPr>
        <p:blipFill>
          <a:blip r:embed="rId1"/>
          <a:stretch/>
        </p:blipFill>
        <p:spPr>
          <a:xfrm>
            <a:off x="12600" y="0"/>
            <a:ext cx="282096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矩形 9"/>
          <p:cNvSpPr/>
          <p:nvPr/>
        </p:nvSpPr>
        <p:spPr>
          <a:xfrm rot="16200000">
            <a:off x="-1808640" y="1809000"/>
            <a:ext cx="6858000" cy="3240000"/>
          </a:xfrm>
          <a:prstGeom prst="rect">
            <a:avLst/>
          </a:prstGeom>
          <a:gradFill rotWithShape="0">
            <a:gsLst>
              <a:gs pos="0">
                <a:srgbClr val="fcfdfe">
                  <a:alpha val="76078"/>
                </a:srgbClr>
              </a:gs>
              <a:gs pos="100000">
                <a:srgbClr val="f9fd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6" descr=""/>
          <p:cNvPicPr/>
          <p:nvPr/>
        </p:nvPicPr>
        <p:blipFill>
          <a:blip r:embed="rId2"/>
          <a:stretch/>
        </p:blipFill>
        <p:spPr>
          <a:xfrm>
            <a:off x="3227400" y="0"/>
            <a:ext cx="59166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标题 1" descr=""/>
          <p:cNvPicPr/>
          <p:nvPr/>
        </p:nvPicPr>
        <p:blipFill>
          <a:blip r:embed="rId3"/>
          <a:stretch/>
        </p:blipFill>
        <p:spPr>
          <a:xfrm>
            <a:off x="-42840" y="2359080"/>
            <a:ext cx="9156600" cy="206676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7" descr=""/>
          <p:cNvPicPr/>
          <p:nvPr/>
        </p:nvPicPr>
        <p:blipFill>
          <a:blip r:embed="rId4"/>
          <a:stretch/>
        </p:blipFill>
        <p:spPr>
          <a:xfrm>
            <a:off x="4111560" y="9360"/>
            <a:ext cx="246852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益冲突声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8"/>
          <p:cNvGrpSpPr/>
          <p:nvPr/>
        </p:nvGrpSpPr>
        <p:grpSpPr>
          <a:xfrm>
            <a:off x="712800" y="228600"/>
            <a:ext cx="7440480" cy="686160"/>
            <a:chOff x="712800" y="228600"/>
            <a:chExt cx="7440480" cy="686160"/>
          </a:xfrm>
        </p:grpSpPr>
        <p:cxnSp>
          <p:nvCxnSpPr>
            <p:cNvPr id="62" name="AutoShape 5"/>
            <p:cNvCxnSpPr/>
            <p:nvPr/>
          </p:nvCxnSpPr>
          <p:spPr>
            <a:xfrm>
              <a:off x="1447200" y="914040"/>
              <a:ext cx="6706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pic>
          <p:nvPicPr>
            <p:cNvPr id="63" name="图片 17" descr=""/>
            <p:cNvPicPr/>
            <p:nvPr/>
          </p:nvPicPr>
          <p:blipFill>
            <a:blip r:embed="rId1"/>
            <a:stretch/>
          </p:blipFill>
          <p:spPr>
            <a:xfrm>
              <a:off x="712800" y="228600"/>
              <a:ext cx="582480" cy="68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914400" y="17524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人作为本临床研究的主要研究者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者，在此研究中不存在经济上、物质上、以及社会关系等方面的利益冲突。倘若在研究开展过程中发现目前尚未知晓的利益冲突，我将及时向伦理委员会报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情同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4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3520" y="1981080"/>
          <a:ext cx="7924680" cy="2438640"/>
        </p:xfrm>
        <a:graphic>
          <a:graphicData uri="http://schemas.openxmlformats.org/drawingml/2006/table">
            <a:tbl>
              <a:tblPr/>
              <a:tblGrid>
                <a:gridCol w="2361960"/>
                <a:gridCol w="5562720"/>
              </a:tblGrid>
              <a:tr h="70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一、知情同意的过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由谁负责获取知情同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在哪里获取知情同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如何获取知情同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情同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9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12720" y="1371600"/>
          <a:ext cx="7916760" cy="3592440"/>
        </p:xfrm>
        <a:graphic>
          <a:graphicData uri="http://schemas.openxmlformats.org/drawingml/2006/table">
            <a:tbl>
              <a:tblPr/>
              <a:tblGrid>
                <a:gridCol w="1978200"/>
                <a:gridCol w="5938560"/>
              </a:tblGrid>
              <a:tr h="7016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二、知情同意书的内容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49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可能的风险与不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49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预期受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49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受试者的备选治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文本框 9"/>
          <p:cNvSpPr/>
          <p:nvPr/>
        </p:nvSpPr>
        <p:spPr>
          <a:xfrm>
            <a:off x="5715000" y="5922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请按照知情同意书的原文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填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情同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5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9"/>
          <p:cNvSpPr/>
          <p:nvPr/>
        </p:nvSpPr>
        <p:spPr>
          <a:xfrm>
            <a:off x="5715000" y="5922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请按照知情同意书的原文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填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609480" y="1371600"/>
          <a:ext cx="7925040" cy="3505320"/>
        </p:xfrm>
        <a:graphic>
          <a:graphicData uri="http://schemas.openxmlformats.org/drawingml/2006/table">
            <a:tbl>
              <a:tblPr/>
              <a:tblGrid>
                <a:gridCol w="752760"/>
                <a:gridCol w="1609560"/>
                <a:gridCol w="990720"/>
                <a:gridCol w="1609560"/>
                <a:gridCol w="971640"/>
                <a:gridCol w="1990800"/>
              </a:tblGrid>
              <a:tr h="7038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二、知情同意书的内容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补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金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损害赔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保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4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费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申办方承担费用具体项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申办方承担费用具体项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情同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71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9"/>
          <p:cNvSpPr/>
          <p:nvPr/>
        </p:nvSpPr>
        <p:spPr>
          <a:xfrm>
            <a:off x="5715000" y="5922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请按照知情同意书的原文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填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9480" y="1066680"/>
          <a:ext cx="7925040" cy="5273640"/>
        </p:xfrm>
        <a:graphic>
          <a:graphicData uri="http://schemas.openxmlformats.org/drawingml/2006/table">
            <a:tbl>
              <a:tblPr/>
              <a:tblGrid>
                <a:gridCol w="3048120"/>
                <a:gridCol w="4876920"/>
              </a:tblGrid>
              <a:tr h="7016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二、知情同意内容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4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受试者信息保密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4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受试者自愿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4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样本的使用范围及时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4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与试验相关的损害后的治疗措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受试者及研究者权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任何时候受试者都可以要求退出试验，满足退出标准时研究者可要求受试者退出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4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情同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77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9"/>
          <p:cNvSpPr/>
          <p:nvPr/>
        </p:nvSpPr>
        <p:spPr>
          <a:xfrm>
            <a:off x="4551480" y="592200"/>
            <a:ext cx="428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请按照知情同意书的原文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填写</a:t>
            </a:r>
            <a:r>
              <a:rPr b="1" lang="en-US" sz="14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不涉及请删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96880" y="1219320"/>
          <a:ext cx="7924680" cy="4267080"/>
        </p:xfrm>
        <a:graphic>
          <a:graphicData uri="http://schemas.openxmlformats.org/drawingml/2006/table">
            <a:tbl>
              <a:tblPr/>
              <a:tblGrid>
                <a:gridCol w="3200400"/>
                <a:gridCol w="4724280"/>
              </a:tblGrid>
              <a:tr h="7016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三、弱势群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49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涉及的弱势群体种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49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必要理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49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保护措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3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知情同意书的签署特殊要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3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法定监护人，见证人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20" descr=""/>
          <p:cNvPicPr/>
          <p:nvPr/>
        </p:nvPicPr>
        <p:blipFill>
          <a:blip r:embed="rId1"/>
          <a:stretch/>
        </p:blipFill>
        <p:spPr>
          <a:xfrm>
            <a:off x="0" y="-1063800"/>
            <a:ext cx="9144000" cy="531180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8" descr=""/>
          <p:cNvPicPr/>
          <p:nvPr/>
        </p:nvPicPr>
        <p:blipFill>
          <a:blip r:embed="rId2"/>
          <a:stretch/>
        </p:blipFill>
        <p:spPr>
          <a:xfrm>
            <a:off x="0" y="3173400"/>
            <a:ext cx="9144000" cy="368316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8" descr=""/>
          <p:cNvPicPr/>
          <p:nvPr/>
        </p:nvPicPr>
        <p:blipFill>
          <a:blip r:embed="rId3"/>
          <a:stretch/>
        </p:blipFill>
        <p:spPr>
          <a:xfrm>
            <a:off x="282600" y="228600"/>
            <a:ext cx="3679920" cy="6094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  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项目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8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49200" y="1192320"/>
          <a:ext cx="8443800" cy="4449600"/>
        </p:xfrm>
        <a:graphic>
          <a:graphicData uri="http://schemas.openxmlformats.org/drawingml/2006/table">
            <a:tbl>
              <a:tblPr/>
              <a:tblGrid>
                <a:gridCol w="1523880"/>
                <a:gridCol w="2546640"/>
                <a:gridCol w="2209680"/>
                <a:gridCol w="216360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项目名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承担科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主要研究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研究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药物临床试验分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器械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干预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非干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药物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器械名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剂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申办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经费来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研究设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实验性研究（随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双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多中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安慰剂对照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治疗对照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交叉对照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平行对照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观察性研究（回顾性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前瞻性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现况性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研究性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承担角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组长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组长单位是否已批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参与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0" name="文本框 20"/>
          <p:cNvSpPr/>
          <p:nvPr/>
        </p:nvSpPr>
        <p:spPr>
          <a:xfrm>
            <a:off x="5181480" y="63180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此页请参照</a:t>
            </a:r>
            <a:r>
              <a:rPr b="1" lang="en-US" sz="1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伦理审查申请表</a:t>
            </a:r>
            <a:r>
              <a:rPr b="1" lang="en-US" sz="1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</a:rPr>
              <a:t>填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4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3520" y="1523880"/>
          <a:ext cx="8118360" cy="3657600"/>
        </p:xfrm>
        <a:graphic>
          <a:graphicData uri="http://schemas.openxmlformats.org/drawingml/2006/table">
            <a:tbl>
              <a:tblPr/>
              <a:tblGrid>
                <a:gridCol w="1623960"/>
                <a:gridCol w="1622520"/>
                <a:gridCol w="1623960"/>
                <a:gridCol w="1623960"/>
                <a:gridCol w="16239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PI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在研项目数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姓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科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职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负责事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GCP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证书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开展的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9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4"/>
          <p:cNvSpPr/>
          <p:nvPr/>
        </p:nvSpPr>
        <p:spPr>
          <a:xfrm>
            <a:off x="838080" y="1270080"/>
            <a:ext cx="76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0" descr=""/>
          <p:cNvPicPr/>
          <p:nvPr/>
        </p:nvPicPr>
        <p:blipFill>
          <a:blip r:embed="rId1"/>
          <a:stretch/>
        </p:blipFill>
        <p:spPr>
          <a:xfrm>
            <a:off x="12600" y="0"/>
            <a:ext cx="28209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9"/>
          <p:cNvSpPr/>
          <p:nvPr/>
        </p:nvSpPr>
        <p:spPr>
          <a:xfrm rot="16200000">
            <a:off x="-1808640" y="1809000"/>
            <a:ext cx="6858000" cy="3240000"/>
          </a:xfrm>
          <a:prstGeom prst="rect">
            <a:avLst/>
          </a:prstGeom>
          <a:gradFill rotWithShape="0">
            <a:gsLst>
              <a:gs pos="0">
                <a:srgbClr val="fcfdfe">
                  <a:alpha val="76078"/>
                </a:srgbClr>
              </a:gs>
              <a:gs pos="100000">
                <a:srgbClr val="f9fd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6" descr=""/>
          <p:cNvPicPr/>
          <p:nvPr/>
        </p:nvPicPr>
        <p:blipFill>
          <a:blip r:embed="rId2"/>
          <a:stretch/>
        </p:blipFill>
        <p:spPr>
          <a:xfrm>
            <a:off x="3227400" y="0"/>
            <a:ext cx="59166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标题 1" descr=""/>
          <p:cNvPicPr/>
          <p:nvPr/>
        </p:nvPicPr>
        <p:blipFill>
          <a:blip r:embed="rId3"/>
          <a:stretch/>
        </p:blipFill>
        <p:spPr>
          <a:xfrm>
            <a:off x="-42840" y="2359080"/>
            <a:ext cx="9156600" cy="20667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7" descr=""/>
          <p:cNvPicPr/>
          <p:nvPr/>
        </p:nvPicPr>
        <p:blipFill>
          <a:blip r:embed="rId4"/>
          <a:stretch/>
        </p:blipFill>
        <p:spPr>
          <a:xfrm>
            <a:off x="4111560" y="9360"/>
            <a:ext cx="246852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9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480" y="1371600"/>
          <a:ext cx="8001000" cy="45720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研究前期的动物实验及文献基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438200" y="384120"/>
            <a:ext cx="297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4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09480" y="1523880"/>
          <a:ext cx="7848720" cy="3932280"/>
        </p:xfrm>
        <a:graphic>
          <a:graphicData uri="http://schemas.openxmlformats.org/drawingml/2006/table">
            <a:tbl>
              <a:tblPr/>
              <a:tblGrid>
                <a:gridCol w="1295640"/>
                <a:gridCol w="2514600"/>
                <a:gridCol w="2438280"/>
                <a:gridCol w="1600200"/>
              </a:tblGrid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研究目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研究方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研究内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试验人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样本量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我院数量、总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)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试验分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是否使用安慰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研究期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是否涉及人类遗传资源采集、收集、买卖、出口、出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438200" y="384120"/>
            <a:ext cx="3438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试验药物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器械的介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AutoShape 5"/>
          <p:cNvCxnSpPr/>
          <p:nvPr/>
        </p:nvCxnSpPr>
        <p:spPr>
          <a:xfrm>
            <a:off x="1447920" y="914040"/>
            <a:ext cx="6706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9" name="矩形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13075"/>
          </a:solidFill>
          <a:ln w="9360">
            <a:solidFill>
              <a:srgbClr val="ffffff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420920"/>
          <a:ext cx="7543800" cy="4522680"/>
        </p:xfrm>
        <a:graphic>
          <a:graphicData uri="http://schemas.openxmlformats.org/drawingml/2006/table">
            <a:tbl>
              <a:tblPr/>
              <a:tblGrid>
                <a:gridCol w="1582560"/>
                <a:gridCol w="2989440"/>
                <a:gridCol w="2971800"/>
              </a:tblGrid>
              <a:tr h="34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试验药物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器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对照药物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器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药物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器械名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有效成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生产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生产批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规    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使用剂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作用机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适应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图片 17" descr=""/>
          <p:cNvPicPr/>
          <p:nvPr/>
        </p:nvPicPr>
        <p:blipFill>
          <a:blip r:embed="rId1"/>
          <a:stretch/>
        </p:blipFill>
        <p:spPr>
          <a:xfrm>
            <a:off x="712800" y="228600"/>
            <a:ext cx="582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8:23:40Z</dcterms:created>
  <dc:creator>RJIRB</dc:creator>
  <dc:description/>
  <dc:language>en-US</dc:language>
  <cp:lastModifiedBy>lenovo</cp:lastModifiedBy>
  <dcterms:modified xsi:type="dcterms:W3CDTF">2024-06-24T08:12:16Z</dcterms:modified>
  <cp:revision>1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