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733-B52E-4CEE-AF9E-FA86A8C781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2F3-D0AE-4506-88CB-78606AEEE0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AC71-4085-4201-BAEB-CEF6121F07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175-7392-43C5-A8BF-F0C28F5BC5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12C-C6CF-41EF-8DDF-7AB226E193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D18D-FCF2-4DB9-AE0E-A293CE6202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9042-4E86-46D1-A8D7-E3A94ADF55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9DCC-9308-4BBD-AEE9-D66C4FB807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BD0-728D-4DC0-A559-B8D5082698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9C3F-17F2-4EB3-8049-DE5C57A296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DA71-6E2D-4D3C-8668-37CF05A9AA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217-10B3-4FFA-99CD-CE8211359E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E7E-4C7C-4A13-B8D4-2C40A2C1EE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34BB-598B-4F61-B0B2-FF62606062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6B7C-BF37-48ED-AF62-A5D14BABF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A866-44FA-466B-A445-96E8A69A96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57A4-8802-49D8-BD41-621DA41648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1E7-128A-4102-9CFA-2D6A3144D4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73F-EC82-4252-B520-CCA4CC3FD1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8C16-9AC6-4602-BEB8-10AE4819BD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874C-179B-4649-A578-EE344257D2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14AD-88F9-42EA-8D0B-0A89EF0DF2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A12-FA7A-43CE-875F-A89596D96A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AF23-B962-4C6C-8D60-9A42312C32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85B7-A4C6-4D2C-8EDA-B47222F663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3B32-62F5-4C98-9D3F-E760141055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D632-B4C0-4F1B-9631-36F71B7C9C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2E0E-096B-41E5-9E25-2F91429636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B63-5D97-4F1A-8296-41E6D4636F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9BC-2D30-4CF1-AD8A-D9CA706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B9C-341C-4F5B-B5F8-198D6DE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4EC-5BF5-4D02-B1BE-AE9D6E1E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741-8796-4F04-94BA-313D842E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A46-A27A-4428-A63B-ABE54A7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2CF-DFA2-4E50-8D34-A5E113AD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581-9CDB-4EFD-812B-98275E7B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D7F-8D31-427A-BBA2-BC8C18C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E3B-BAF1-4784-B72A-D9FEBC12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ADC-1524-4B38-825F-D23AF4B2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35D-A2B6-43BE-BC79-CD88BB3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A14-A555-47E9-8D26-F5749BA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26B-D24C-4402-BF7E-D14A35F0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0" descr=""/>
          <p:cNvPicPr/>
          <p:nvPr/>
        </p:nvPicPr>
        <p:blipFill>
          <a:blip r:embed="rId1"/>
          <a:stretch/>
        </p:blipFill>
        <p:spPr>
          <a:xfrm>
            <a:off x="0" y="-1063800"/>
            <a:ext cx="9144000" cy="5311800"/>
          </a:xfrm>
          <a:prstGeom prst="rect">
            <a:avLst/>
          </a:prstGeom>
          <a:ln w="0">
            <a:noFill/>
          </a:ln>
        </p:spPr>
      </p:pic>
      <p:sp>
        <p:nvSpPr>
          <p:cNvPr id="49" name="矩形 23"/>
          <p:cNvSpPr/>
          <p:nvPr/>
        </p:nvSpPr>
        <p:spPr>
          <a:xfrm>
            <a:off x="0" y="0"/>
            <a:ext cx="9144000" cy="3186000"/>
          </a:xfrm>
          <a:prstGeom prst="rect">
            <a:avLst/>
          </a:prstGeom>
          <a:gradFill rotWithShape="0">
            <a:gsLst>
              <a:gs pos="0">
                <a:srgbClr val="fcfdfe">
                  <a:alpha val="58039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8" descr=""/>
          <p:cNvPicPr/>
          <p:nvPr/>
        </p:nvPicPr>
        <p:blipFill>
          <a:blip r:embed="rId2"/>
          <a:stretch/>
        </p:blipFill>
        <p:spPr>
          <a:xfrm>
            <a:off x="0" y="3251160"/>
            <a:ext cx="9144000" cy="3683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920" y="4495320"/>
            <a:ext cx="2971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担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2"/>
          <p:cNvSpPr/>
          <p:nvPr/>
        </p:nvSpPr>
        <p:spPr>
          <a:xfrm>
            <a:off x="31240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2"/>
          <p:cNvSpPr/>
          <p:nvPr/>
        </p:nvSpPr>
        <p:spPr>
          <a:xfrm>
            <a:off x="601992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办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副标题 2"/>
          <p:cNvSpPr/>
          <p:nvPr/>
        </p:nvSpPr>
        <p:spPr>
          <a:xfrm>
            <a:off x="152280" y="49528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2"/>
          <p:cNvSpPr/>
          <p:nvPr/>
        </p:nvSpPr>
        <p:spPr>
          <a:xfrm>
            <a:off x="3051000" y="49482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2"/>
          <p:cNvSpPr/>
          <p:nvPr/>
        </p:nvSpPr>
        <p:spPr>
          <a:xfrm>
            <a:off x="6019920" y="49528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单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" descr=""/>
          <p:cNvPicPr/>
          <p:nvPr/>
        </p:nvPicPr>
        <p:blipFill>
          <a:blip r:embed="rId3"/>
          <a:stretch/>
        </p:blipFill>
        <p:spPr>
          <a:xfrm>
            <a:off x="282600" y="228600"/>
            <a:ext cx="367992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标题 1"/>
          <p:cNvSpPr/>
          <p:nvPr/>
        </p:nvSpPr>
        <p:spPr>
          <a:xfrm>
            <a:off x="2057400" y="1219320"/>
            <a:ext cx="51814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伦理审查会议项目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汇报时间：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440" y="1101600"/>
          <a:ext cx="8763120" cy="5126040"/>
        </p:xfrm>
        <a:graphic>
          <a:graphicData uri="http://schemas.openxmlformats.org/drawingml/2006/table">
            <a:tbl>
              <a:tblPr/>
              <a:tblGrid>
                <a:gridCol w="1647720"/>
                <a:gridCol w="7115400"/>
              </a:tblGrid>
              <a:tr h="361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目的和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要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研究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要研究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例选择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380988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纳入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例选择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380988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方案和合并用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38200" y="384120"/>
            <a:ext cx="442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组的必要性及安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19320"/>
          <a:ext cx="8229600" cy="4800600"/>
        </p:xfrm>
        <a:graphic>
          <a:graphicData uri="http://schemas.openxmlformats.org/drawingml/2006/table">
            <a:tbl>
              <a:tblPr/>
              <a:tblGrid>
                <a:gridCol w="4073400"/>
                <a:gridCol w="415620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安慰剂的必要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慰剂组的保护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疗效指标及观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指标及观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及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益冲突声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8"/>
          <p:cNvGrpSpPr/>
          <p:nvPr/>
        </p:nvGrpSpPr>
        <p:grpSpPr>
          <a:xfrm>
            <a:off x="712800" y="228600"/>
            <a:ext cx="7440480" cy="686160"/>
            <a:chOff x="712800" y="228600"/>
            <a:chExt cx="7440480" cy="686160"/>
          </a:xfrm>
        </p:grpSpPr>
        <p:cxnSp>
          <p:nvCxnSpPr>
            <p:cNvPr id="62" name="AutoShape 5"/>
            <p:cNvCxnSpPr/>
            <p:nvPr/>
          </p:nvCxnSpPr>
          <p:spPr>
            <a:xfrm>
              <a:off x="1447200" y="914040"/>
              <a:ext cx="6706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pic>
          <p:nvPicPr>
            <p:cNvPr id="63" name="图片 17" descr=""/>
            <p:cNvPicPr/>
            <p:nvPr/>
          </p:nvPicPr>
          <p:blipFill>
            <a:blip r:embed="rId1"/>
            <a:stretch/>
          </p:blipFill>
          <p:spPr>
            <a:xfrm>
              <a:off x="712800" y="228600"/>
              <a:ext cx="58248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914400" y="1752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作为本临床研究的主要研究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者，在此研究中不存在经济上、物质上、以及社会关系等方面的利益冲突。倘若在研究开展过程中发现目前尚未知晓的利益冲突，我将及时向伦理委员会报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7924680" cy="2438640"/>
        </p:xfrm>
        <a:graphic>
          <a:graphicData uri="http://schemas.openxmlformats.org/drawingml/2006/table">
            <a:tbl>
              <a:tblPr/>
              <a:tblGrid>
                <a:gridCol w="2361960"/>
                <a:gridCol w="556272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一、知情同意的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由谁负责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哪里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如何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2720" y="1371600"/>
          <a:ext cx="7916760" cy="3592440"/>
        </p:xfrm>
        <a:graphic>
          <a:graphicData uri="http://schemas.openxmlformats.org/drawingml/2006/table">
            <a:tbl>
              <a:tblPr/>
              <a:tblGrid>
                <a:gridCol w="1978200"/>
                <a:gridCol w="593856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书的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可能的风险与不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预期受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的备选治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5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09480" y="1371600"/>
          <a:ext cx="7925040" cy="3505320"/>
        </p:xfrm>
        <a:graphic>
          <a:graphicData uri="http://schemas.openxmlformats.org/drawingml/2006/table">
            <a:tbl>
              <a:tblPr/>
              <a:tblGrid>
                <a:gridCol w="752760"/>
                <a:gridCol w="1609560"/>
                <a:gridCol w="990720"/>
                <a:gridCol w="1609560"/>
                <a:gridCol w="971640"/>
                <a:gridCol w="1990800"/>
              </a:tblGrid>
              <a:tr h="703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书的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补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损害赔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保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4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方承担费用具体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方承担费用具体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066680"/>
          <a:ext cx="7925040" cy="5273640"/>
        </p:xfrm>
        <a:graphic>
          <a:graphicData uri="http://schemas.openxmlformats.org/drawingml/2006/table">
            <a:tbl>
              <a:tblPr/>
              <a:tblGrid>
                <a:gridCol w="3048120"/>
                <a:gridCol w="487692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信息保密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自愿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样本的使用范围及时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与试验相关的损害后的治疗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及研究者权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任何时候受试者都可以要求退出试验，满足退出标准时研究者可要求受试者退出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7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4551480" y="592200"/>
            <a:ext cx="42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不涉及请删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96880" y="1219320"/>
          <a:ext cx="7924680" cy="4267080"/>
        </p:xfrm>
        <a:graphic>
          <a:graphicData uri="http://schemas.openxmlformats.org/drawingml/2006/table">
            <a:tbl>
              <a:tblPr/>
              <a:tblGrid>
                <a:gridCol w="3200400"/>
                <a:gridCol w="472428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三、弱势群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涉及的弱势群体种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必要理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保护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知情同意书的签署特殊要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法定监护人，见证人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试者招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8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95280" y="1752480"/>
          <a:ext cx="6629400" cy="158436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拟采取的招募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招募广告使用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海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传单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宣传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络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募广告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3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0" descr=""/>
          <p:cNvPicPr/>
          <p:nvPr/>
        </p:nvPicPr>
        <p:blipFill>
          <a:blip r:embed="rId1"/>
          <a:stretch/>
        </p:blipFill>
        <p:spPr>
          <a:xfrm>
            <a:off x="0" y="-106380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8" descr=""/>
          <p:cNvPicPr/>
          <p:nvPr/>
        </p:nvPicPr>
        <p:blipFill>
          <a:blip r:embed="rId2"/>
          <a:stretch/>
        </p:blipFill>
        <p:spPr>
          <a:xfrm>
            <a:off x="0" y="3173400"/>
            <a:ext cx="9144000" cy="3683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" descr=""/>
          <p:cNvPicPr/>
          <p:nvPr/>
        </p:nvPicPr>
        <p:blipFill>
          <a:blip r:embed="rId3"/>
          <a:stretch/>
        </p:blipFill>
        <p:spPr>
          <a:xfrm>
            <a:off x="282600" y="228600"/>
            <a:ext cx="367992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 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项目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9200" y="1192320"/>
          <a:ext cx="8443800" cy="4449600"/>
        </p:xfrm>
        <a:graphic>
          <a:graphicData uri="http://schemas.openxmlformats.org/drawingml/2006/table">
            <a:tbl>
              <a:tblPr/>
              <a:tblGrid>
                <a:gridCol w="1523880"/>
                <a:gridCol w="2546640"/>
                <a:gridCol w="2209680"/>
                <a:gridCol w="216360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担科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研究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临床试验分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干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剂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费来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性研究（随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双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多中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慰剂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治疗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交叉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行对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观察性研究（回顾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前瞻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况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性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担角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长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长单位是否已批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与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文本框 20"/>
          <p:cNvSpPr/>
          <p:nvPr/>
        </p:nvSpPr>
        <p:spPr>
          <a:xfrm>
            <a:off x="5181480" y="63180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此页请参照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伦理审查申请表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523880"/>
          <a:ext cx="8118360" cy="3657600"/>
        </p:xfrm>
        <a:graphic>
          <a:graphicData uri="http://schemas.openxmlformats.org/drawingml/2006/table">
            <a:tbl>
              <a:tblPr/>
              <a:tblGrid>
                <a:gridCol w="1623960"/>
                <a:gridCol w="1622520"/>
                <a:gridCol w="1623960"/>
                <a:gridCol w="1623960"/>
                <a:gridCol w="16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研项目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事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G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证书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开展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371600"/>
          <a:ext cx="8001000" cy="45720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前期的动物实验及文献基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523880"/>
          <a:ext cx="7848720" cy="3932280"/>
        </p:xfrm>
        <a:graphic>
          <a:graphicData uri="http://schemas.openxmlformats.org/drawingml/2006/table">
            <a:tbl>
              <a:tblPr/>
              <a:tblGrid>
                <a:gridCol w="1295640"/>
                <a:gridCol w="2514600"/>
                <a:gridCol w="2438280"/>
                <a:gridCol w="1600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方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人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样本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院数量、总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分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使用安慰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期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涉及人类遗传资源采集、收集、买卖、出口、出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438200" y="384120"/>
            <a:ext cx="3438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药物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器械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420920"/>
          <a:ext cx="7543800" cy="4522680"/>
        </p:xfrm>
        <a:graphic>
          <a:graphicData uri="http://schemas.openxmlformats.org/drawingml/2006/table">
            <a:tbl>
              <a:tblPr/>
              <a:tblGrid>
                <a:gridCol w="1582560"/>
                <a:gridCol w="2989440"/>
                <a:gridCol w="2971800"/>
              </a:tblGrid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照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效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产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产批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规   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剂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作用机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应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8:23:40Z</dcterms:created>
  <dc:creator>RJIRB</dc:creator>
  <dc:description/>
  <dc:language>en-US</dc:language>
  <cp:lastModifiedBy>lenovo</cp:lastModifiedBy>
  <dcterms:modified xsi:type="dcterms:W3CDTF">2023-08-14T03:21:22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